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DCF-8EF3-41B0-A9B1-3344DBBC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00D-2070-4FFD-88CB-FD4D86B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9AC-1A1D-4DA5-8F9D-A30255EC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5B8-CBB9-492C-82C0-2BBBBEEE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64B8-794C-4D9F-9389-5855D25A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83B-97F1-4654-99FC-258102CA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C987-32CA-473A-855B-BB9104B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012E-7980-4077-8B95-3860A89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2819-CFDD-408E-9EAB-1FF47479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DD9-809B-44A7-A9A9-625F5EFA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E50-5C3D-43AA-8EE3-8CB8845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311-A24B-4272-A475-D36B62A2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044A-C735-4B81-9109-2013C4E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419-06F9-4567-B222-6A6E949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9FE-690D-45CE-9A40-F4639971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97B-A213-4EBF-A209-4A2EF194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CACE-B914-4DC8-9D8D-07CAAEF6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003-4973-4F33-BDE7-1F8139F4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21D-7103-4C02-987B-1F0DC286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D53-1770-468A-8CB1-4FD7720E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BCF-60C6-4058-B143-923D32F5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E97-85F9-4007-8643-3D001D7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CF6-749A-45F6-844A-7778A5C9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056-0307-443C-BD74-C90920B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971800" y="6477120"/>
            <a:ext cx="3200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2055-2EA0-4630-BDA6-89ACC7975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EB6-7243-494B-A873-6B1180A94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gl.microsoft.com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j0282809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percent of this numb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13372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895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0080" y="28954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4419720"/>
            <a:ext cx="27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164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257800"/>
            <a:ext cx="27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64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51055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72000" y="640080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49960" y="990720"/>
            <a:ext cx="51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 % of 8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143000"/>
            <a:ext cx="99036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0960" y="990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828800" y="213372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752480"/>
            <a:ext cx="3049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9360" y="793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143000"/>
            <a:ext cx="106668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8160" y="9907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percent of this numb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213372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895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0080" y="28954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365760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419720"/>
            <a:ext cx="27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29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257800"/>
            <a:ext cx="27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9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51055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572000" y="640080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9960" y="990720"/>
            <a:ext cx="51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0 % of 7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1143000"/>
            <a:ext cx="99036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0960" y="990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828800" y="213372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752480"/>
            <a:ext cx="3049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793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143000"/>
            <a:ext cx="106668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8160" y="9144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71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99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percent of this numb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213372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9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895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0080" y="28954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365760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419720"/>
            <a:ext cx="27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415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5257800"/>
            <a:ext cx="27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15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1055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572000" y="640080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49960" y="990720"/>
            <a:ext cx="51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0 % of 69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1143000"/>
            <a:ext cx="99036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0960" y="990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828800" y="213372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1752480"/>
            <a:ext cx="3049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9360" y="793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143000"/>
            <a:ext cx="106668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8160" y="9144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71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99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redi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67680" y="1776240"/>
            <a:ext cx="7410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part from “Microsoft Cli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llery” located on the Interne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cgl.microsoft.com/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pgallerylive/default.as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cent can be defined as “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hundred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962520"/>
            <a:ext cx="403848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0670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1295280"/>
            <a:ext cx="6095880" cy="106704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2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 parts out of 100 or 2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6095880" cy="5257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ercents Have Equivalents in Decimals and Fractio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2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103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106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thing to remember is “of” means multiply in mathematic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581280"/>
            <a:ext cx="1600200" cy="2514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960" y="411480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581280"/>
            <a:ext cx="1600200" cy="2514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When you see a percent problem you know when you read “of” in the problem you multip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114800"/>
            <a:ext cx="539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25% of 2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191120"/>
            <a:ext cx="1219320" cy="1295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748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82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– Change your percent to a decimal and then move it two places to the lef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65240" y="3675240"/>
            <a:ext cx="5025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25% x 2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066680" cy="99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35146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4952880"/>
            <a:ext cx="14475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1640" y="350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886200"/>
            <a:ext cx="1066680" cy="99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121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3 – Multiply just like a regular decimal multiplication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43828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520" y="320040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267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96252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724280"/>
            <a:ext cx="228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4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5791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7760" y="5562720"/>
            <a:ext cx="221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121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– Place the decimal point 2 places to the left in your answ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43828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5520" y="320040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267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96252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648320"/>
            <a:ext cx="228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4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7150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7760" y="5410080"/>
            <a:ext cx="221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52578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190760" y="6477120"/>
            <a:ext cx="9903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Monica/Bob Yuskaitis</cp:lastModifiedBy>
  <dcterms:modified xsi:type="dcterms:W3CDTF">2000-02-24T15:22:56Z</dcterms:modified>
  <cp:revision>18</cp:revision>
  <dc:subject/>
  <dc:title>Percent</dc:title>
</cp:coreProperties>
</file>